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0D4-2FB7-4168-BB3E-951FF601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0BA-E37C-4D77-B159-501DE478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94A-D0E7-45F6-A67E-C7BB7B67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EE9-49C0-41F2-94AA-6999502B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CEBB-838C-4FBA-9230-2F33FC73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51C2-EB61-44A7-B025-BFB9A4D2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7ADB-CCAF-409F-8DA7-BA97FD8B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798-CDDC-4DBC-996B-B8457F33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9C0-C74C-4E83-A976-61C78E9A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1054-CA87-4BB9-81C7-1DB31E2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553A-9425-450B-BA8D-4925B88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D7E-6047-40C2-BBD0-E6108F59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FCC6-DFF8-44EF-82AB-7E054FC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CC6D-1874-431B-8708-620E4ED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E4D3-001E-41CA-95C1-9C08D9A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5B6E-477B-4568-BBA5-4B0DB761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82C8-B3BD-46C6-AE75-0234FF86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EA2-A882-4B8B-A3AE-2950186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087-3683-435F-8945-6AE85CB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BB6-A554-4502-988E-8BFCDE1F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AE5-78F7-44D1-8109-A533E3E1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EAE-DE4B-4A7D-8792-B024775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CA5-91E7-4538-9FB6-0DB058A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360-5415-4057-B2D5-A86BB71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EF62-2C74-4083-B449-6212BF7CA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0A3-A45C-4D70-A6E2-0BD0B5C8C3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     Clase 802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7 de noviembre del 2014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Propósito # 2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e hora duer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/empezar a j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equipos/ querer ga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/preferir marcar muchos ta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chez/querer meter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ortero/querer parar el b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quipo de Sanchez/no pe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5580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 a las 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ganar el part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marcar un ta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ierden ustedes a veces o ganan siemp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refieren ustedes jugar en el parque o en la ca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jugar al beisbol o al futb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jugar con un grupo de amigos o con un equipo for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jugar en el partido o prefieres mirar el part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ser jugador(a) o espectador(o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Siempre quieres gan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ierdes a ve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8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2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3657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la hoja FOR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cp:lastPrinted>2014-11-06T14:27:05Z</cp:lastPrinted>
  <dcterms:modified xsi:type="dcterms:W3CDTF">2014-11-07T17:58:10Z</dcterms:modified>
  <cp:revision>7</cp:revision>
  <dc:subject/>
  <dc:title>Me llamo __________    Clase 7 IM La fecha es el 2 de diciembre del 2010</dc:title>
</cp:coreProperties>
</file>